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086-8BAE-4775-92D8-CAD69F70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73D-0868-40A7-96DB-4C90FB59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CB7-49FA-43A4-9AF6-F3B79EBE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46A-C56F-4AF8-8BA7-D9B78515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F908-217E-4954-AD46-CED1240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A46-46E4-4863-BF2E-909A3CE7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FDC-5C20-4EF1-BE35-1D915FED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532-E411-4C4F-A827-0B503B67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93B-AEC9-4571-8918-6D290EE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9B1D-F207-48C3-86D5-BE7EB72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EB1-2120-4A36-ACB3-66B18EA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B8C-E11B-44B5-9FF4-FC941461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327F-BE29-4B9D-961B-BB40C8E52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600200"/>
            <a:ext cx="8077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Tahoma"/>
              </a:rPr>
              <a:t>Astronomie a astro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(ro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zšířená verz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4419720"/>
            <a:ext cx="32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chal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Šv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anda@asu.cas.c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Jasnosti hvěz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ephan-Boltzmannův zákon (na jednotku plochy) E=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vězdné velikosti - 1 - 6, Ptolemaios (2. st. nl, Řeck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ogsonova rovnice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1 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-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=-2,5 log(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1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/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2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– magnituda definována jako m=-2,5 log(I/I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0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) – jaká je velikost dvojhvězd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odul vzdálenosti m - M=5 log r -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Měření vzdálenost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adar, la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aralax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ephe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andardní svíčky (RR Lyr, novy, supernovy, galaxie, kvaz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Současná astronom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lunce, kosmické počas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kosmologické mod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lkorozměrová struktura vesmí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odely hvězd - vysoké rozlišení, interakce, rotace, mg.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emná hm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Konec pasívního sezení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teď se zapotíte i vy a já si přestanu třepit hu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ddddd"/>
                </a:solidFill>
                <a:latin typeface="Tahoma"/>
              </a:rPr>
              <a:t>ZAČÍNÁ ZNALOSTNÍ KVÍ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ddddd"/>
                </a:solidFill>
                <a:latin typeface="Tahoma"/>
              </a:rPr>
              <a:t>OTÁZKA: </a:t>
            </a:r>
            <a:r>
              <a:rPr b="1" lang="en-GB" sz="4400" spc="-1" strike="noStrike">
                <a:solidFill>
                  <a:srgbClr val="dddddd"/>
                </a:solidFill>
                <a:latin typeface="Tahoma"/>
              </a:rPr>
              <a:t>CO TO J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atmění Slu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666880" cy="2155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362320" cy="214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5715000" y="1676520"/>
            <a:ext cx="2719440" cy="2012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077080" cy="308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atmění Měsí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133960" cy="2781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2743200" cy="2201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343400" y="1676520"/>
            <a:ext cx="2819520" cy="208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olární zář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438640" cy="182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1600200"/>
            <a:ext cx="2438640" cy="1822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95280" y="3505320"/>
            <a:ext cx="2133720" cy="2857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3505320"/>
            <a:ext cx="2133360" cy="2857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5715000" y="3505320"/>
            <a:ext cx="213372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3200040"/>
            <a:ext cx="7925040" cy="3352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znikají při srážkách nabitých částic od Slunce s atomy a molekulami v zemské atmosféř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červená - dusík, kyslík; zelená - dusík; modrá - vodí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běžně pozorovatelné z polárních oblastí, výjimečně i velmi jižně (zvýšená aktivita, narušené geomagnetické po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ahoma"/>
              </a:rPr>
              <a:t>Mete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333600" cy="2219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2047680" cy="2390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2971800" cy="2303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3200400"/>
            <a:ext cx="7925040" cy="33526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rážka kosmického smetí s atmosférou - 80 - 200 km nad povrchem, zcela shoř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vítí ionizovaný tunel vzduchu, těleso se v drtivé většině případů zcela rozpadne (jinak meteo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Extrasolární planet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dnes známo 119 planet u 114 hvězd (13 systémů je vícenásobných) - </a:t>
            </a:r>
            <a:r>
              <a:rPr b="0" lang="en-GB" sz="1400" spc="-1" strike="noStrike">
                <a:solidFill>
                  <a:srgbClr val="dddddd"/>
                </a:solidFill>
                <a:latin typeface="Tahoma"/>
              </a:rPr>
              <a:t>21. 11.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vní objevená - 51 Peg (19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statisticky nejvíce obří planety (Jupiter a větší) blízko centrální hvězdy- dáno metodami jejich hled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819520" cy="2256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533520"/>
            <a:ext cx="6086520" cy="608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Extrasolární planet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09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strometr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adiální rychlosti (nejčastějš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kryty centrálních hvěz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ravitační mikročoč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ul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řebytek IR z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2819520" cy="56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" y="2590920"/>
            <a:ext cx="281952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" y="5486400"/>
            <a:ext cx="2819520" cy="752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Gravitační kolap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rovnováha gravitační síly a gradientu tlaku naruš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ansovo kritérium M&gt;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-&gt; zkolab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eansova hmotnost: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=konst T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3/2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ro n~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6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cm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-3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, T~50 K,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J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~ 10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Gravitační kolap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velké oblaky M&gt;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5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M</a:t>
            </a:r>
            <a:r>
              <a:rPr b="0" lang="en-GB" sz="2800" spc="-1" strike="noStrike" baseline="-25000">
                <a:solidFill>
                  <a:srgbClr val="dddddd"/>
                </a:solidFill>
                <a:latin typeface="Tahoma"/>
              </a:rPr>
              <a:t>S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- O-B asociace (intenzivní hvězdný vítr rozfoukává zbytky oblak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malé oblaky - otevřené hvězdoku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chemické spal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ády těles do Sl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a další primitivní předsta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Helmholtzova kontrakce (1869) (Slunce by se mělo smršťovat asi o 1,5 metru za hodinu aby se udržel současný záživý výkon -&gt; nebylo by starší, než 20 mil. l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již brzy překoná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Zdroje energie hvězd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1939 - zdrojem energie jsou termojaderné reakce - udělány i rychlé jednoduché modely, které potvrdily, že by to tak mohlo fungov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-p cyklus (při 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7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), CNO cyklus (při 10</a:t>
            </a:r>
            <a:r>
              <a:rPr b="0" lang="en-GB" sz="2800" spc="-1" strike="noStrike" baseline="30000">
                <a:solidFill>
                  <a:srgbClr val="dddddd"/>
                </a:solidFill>
                <a:latin typeface="Tahoma"/>
              </a:rPr>
              <a:t>9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K), 3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 proces, ..., -&gt;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3048120" cy="2509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2b2b2"/>
                </a:solidFill>
                <a:latin typeface="Tahoma"/>
              </a:rPr>
              <a:t>Proměnné hvěz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5800" y="1523880"/>
            <a:ext cx="7772400" cy="0"/>
          </a:xfrm>
          <a:prstGeom prst="line">
            <a:avLst/>
          </a:prstGeom>
          <a:ln w="414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geometrick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zákrytové (Algol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pulsující (cepheidy, miri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Tahoma"/>
              </a:rPr>
              <a:t>eruptivní (novy, supernovy, U Gem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09:46:08Z</dcterms:created>
  <dc:creator>svanm9am</dc:creator>
  <dc:description/>
  <dc:language>en-US</dc:language>
  <cp:lastModifiedBy>svanm9am</cp:lastModifiedBy>
  <dcterms:modified xsi:type="dcterms:W3CDTF">2003-12-02T17:25:48Z</dcterms:modified>
  <cp:revision>40</cp:revision>
  <dc:subject/>
  <dc:title>No Slide Title</dc:title>
</cp:coreProperties>
</file>